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785-80B9-4BDA-A417-EBE03CC3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C34-5BBC-4EC6-9481-44BE875B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F2A-D9B1-4C7E-A5D2-A928814F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0C8-6A90-45F3-A99F-A2C5B429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CB0-B125-4320-816E-AE3AC171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F56-284F-45BB-9BB1-AC0CA35B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91C-F91A-4AF1-A30E-01B8AE50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D79-319C-47AF-915E-E78DB306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4BD-0929-4F5B-AA3D-9C4C2C56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A32-4545-4379-AC29-522341B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B5F-1179-46B5-95A6-417632D1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964-5D84-4269-9114-8A00A64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C5EC-59F2-4DD7-93B7-40F5D30D23F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Farming In The U.K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types of farming that you would find in the UK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able, dairy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ll far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farms are actually mixing some or all of these in an attempt to make more mone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farming in Britain tends to be intensive although some of the hill farms of Wales and Scotland could be described as extens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f them are commer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bbc.co.uk/scotland/learning/bitesize/standard/geography/images/g29.gif"/>
          <p:cNvPicPr/>
          <p:nvPr/>
        </p:nvPicPr>
        <p:blipFill>
          <a:blip r:embed="rId1"/>
          <a:stretch/>
        </p:blipFill>
        <p:spPr>
          <a:xfrm>
            <a:off x="1488960" y="1184400"/>
            <a:ext cx="59356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rket Gard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Market gardening is not shown on the map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This is because this type of farming can be done anywher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is the growing of vegetables and fruits, usually in huge greenhous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ften the biggest requirement of market gardening is the transport routes needed to take the products to shops and supermarkets for sal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ften products have to be sold within 24 hours of being produc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i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able (e.g. East Angl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 summers, cold frosty winters. Average temperatures of 18°C or more. Low rainfall, falling during the growing season main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tile boulder clays, which are easy to ploug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flat, so it easy for machinery to be used on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rying (e.g. Dev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 summers and mild winters mean that pasture is available all year long. High rainfall also encourages fast grass growt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tile enough for good pasture growth, but not for arable cro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tly sloping, the green rolling hills of the UK. Cattle can not cope with land that is too ste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394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i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ll Farming (sheep) (e.g. Wa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 summers, cold winters and plenty of rainfall all contribute to these areas being unsuitable for arable farming but good for grass growt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, poor soils that can be easily eroded and would not be good enough for other forms of farm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lly, steep land that would not be suitable for machinery or cattle. Sheep can cope with the slopes thoug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Gardening (e.g. East Angl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and water is usually controlled carefully by being in huge greenhou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is brought in to provide the best nutrients for the crops. Fertilisers are used extensive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greenhouses themselves need flat land on which to be buil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uma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mmon Agricultural Policy and other regulations have encouraged arable farming more than dairying or hill sheep farming, and this has led to many farms becoming mixed farm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dairy farms and market gardens require excellent transport links to their markets as they are producing goods that will quickly go off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able farming and market gardening require large capital inputs, whilst sheep farming and dairying require much le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ever arable farms and market gardens tend to be the more profitable al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6:27:22Z</dcterms:created>
  <dc:creator>Dell_02</dc:creator>
  <dc:description/>
  <dc:language>en-US</dc:language>
  <cp:lastModifiedBy>Dell_02</cp:lastModifiedBy>
  <dcterms:modified xsi:type="dcterms:W3CDTF">2011-01-27T16:42:49Z</dcterms:modified>
  <cp:revision>2</cp:revision>
  <dc:subject/>
  <dc:title>Farming In The U.K.</dc:title>
</cp:coreProperties>
</file>